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F1C-0C37-4AD8-AEEF-44D3712A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498-B6DC-462C-BB09-99089B11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3DD-AC76-426B-8C91-7E9A6968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E72-E189-4D36-A93C-B50C7A7F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32D-5B06-48E4-BF55-403E09C6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CCD-02C2-40FD-B7D2-C7385BE6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530-417E-43B9-ADAA-4B62F318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06D-4968-4443-B2E9-84D84730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70E-CE90-427A-92A1-8977ECA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C6E-1C5A-4C49-BAA5-1E4AB34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E14-A000-4C41-9F65-88001F0E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281-32D7-42C0-88C5-204E028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5226-BFA0-4E35-A678-3ECD15AF3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ct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7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8.pct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arklandsd.org/?page_id=824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3124080"/>
            <a:ext cx="3124080" cy="3505320"/>
          </a:xfrm>
          <a:prstGeom prst="rect">
            <a:avLst/>
          </a:prstGeom>
          <a:solidFill>
            <a:srgbClr val="9ec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3276720"/>
          <a:ext cx="4743720" cy="33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76720"/>
                    <a:ext cx="474372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495680" y="228600"/>
            <a:ext cx="4267440" cy="2514600"/>
          </a:xfrm>
          <a:prstGeom prst="rect">
            <a:avLst/>
          </a:prstGeom>
          <a:solidFill>
            <a:srgbClr val="7be3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8320" y="304920"/>
          <a:ext cx="5181480" cy="22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04920"/>
                    <a:ext cx="5181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04920" y="1981080"/>
            <a:ext cx="1371600" cy="14479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819520"/>
            <a:ext cx="4267440" cy="3809880"/>
          </a:xfrm>
          <a:prstGeom prst="rect">
            <a:avLst/>
          </a:prstGeom>
          <a:solidFill>
            <a:srgbClr val="969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3054240"/>
          <a:ext cx="5048280" cy="3719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054240"/>
                    <a:ext cx="50482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” Gu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914400"/>
            <a:ext cx="3200400" cy="2133720"/>
          </a:xfrm>
          <a:prstGeom prst="ellipse">
            <a:avLst/>
          </a:prstGeom>
          <a:solidFill>
            <a:srgbClr val="ddb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990720"/>
          <a:ext cx="3733560" cy="1827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990720"/>
                    <a:ext cx="373356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-4572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2819520" cy="396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33520" y="100080"/>
          <a:ext cx="4743720" cy="33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100080"/>
                    <a:ext cx="4743720" cy="33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943600" y="228600"/>
            <a:ext cx="2971800" cy="5105520"/>
          </a:xfrm>
          <a:prstGeom prst="rect">
            <a:avLst/>
          </a:prstGeom>
          <a:solidFill>
            <a:srgbClr val="969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81480" y="228600"/>
          <a:ext cx="4743720" cy="5105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28600"/>
                    <a:ext cx="4743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124080" y="228600"/>
            <a:ext cx="2667240" cy="5105520"/>
          </a:xfrm>
          <a:prstGeom prst="rect">
            <a:avLst/>
          </a:prstGeom>
          <a:solidFill>
            <a:srgbClr val="ddb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14600" y="228600"/>
          <a:ext cx="3962520" cy="3505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28600"/>
                    <a:ext cx="3962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438280" y="3505320"/>
          <a:ext cx="4343400" cy="2133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43434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4267080"/>
            <a:ext cx="2819520" cy="2362320"/>
          </a:xfrm>
          <a:prstGeom prst="rect">
            <a:avLst/>
          </a:prstGeom>
          <a:solidFill>
            <a:srgbClr val="7be3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213080"/>
            <a:ext cx="5773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. Writing the pap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ce you validate your sourc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Take notes on the informa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Organize your thought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arch findings into a paper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erently ties this all togeth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Begin with an int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graph, then the body of the pap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r final paragraph must inclu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the information led to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ment of your final hypothe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410080"/>
            <a:ext cx="5715000" cy="1219320"/>
          </a:xfrm>
          <a:prstGeom prst="rect">
            <a:avLst/>
          </a:prstGeom>
          <a:solidFill>
            <a:srgbClr val="9ec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5486400"/>
            <a:ext cx="556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. Citing Your Wor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cite all resources using APA format so be sure to save this information as you gather your sourc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s for making Citations and a References Lis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odle Tools: On Library Main Page under “Resources for Students”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200400"/>
            <a:ext cx="2819520" cy="990720"/>
          </a:xfrm>
          <a:prstGeom prst="rect">
            <a:avLst/>
          </a:prstGeom>
          <a:solidFill>
            <a:srgbClr val="daab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WA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valid and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s and on-line documents.  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lists to the right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 your sources and data you f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2438280"/>
            <a:ext cx="2971800" cy="4114800"/>
          </a:xfrm>
          <a:prstGeom prst="ellipse">
            <a:avLst/>
          </a:prstGeom>
          <a:solidFill>
            <a:srgbClr val="78e1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brary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-Thurs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00am-7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00am-4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:00am-1: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28600"/>
            <a:ext cx="7162920" cy="1905120"/>
          </a:xfrm>
          <a:prstGeom prst="ellipse">
            <a:avLst/>
          </a:prstGeom>
          <a:solidFill>
            <a:srgbClr val="7be3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286000"/>
            <a:ext cx="5333760" cy="4572000"/>
          </a:xfrm>
          <a:prstGeom prst="rect">
            <a:avLst/>
          </a:prstGeom>
          <a:solidFill>
            <a:srgbClr val="9692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18680" y="114120"/>
            <a:ext cx="2666880" cy="2895480"/>
          </a:xfrm>
          <a:prstGeom prst="rtTriangle">
            <a:avLst/>
          </a:prstGeom>
          <a:solidFill>
            <a:srgbClr val="ddb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054800">
            <a:off x="-27000" y="610920"/>
            <a:ext cx="287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581280" y="2286000"/>
          <a:ext cx="5181840" cy="457164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82880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s.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r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E Pub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ne requi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QU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stroj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land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me acces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stroja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land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me access: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stroja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odle 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odl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905120" y="304920"/>
            <a:ext cx="72388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Be RESPONSIBLE on-l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our Acceptable Use Policy found a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rklandsd.org/?page_id=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s must be capable and able to use Parkland’s systems and software relevant to their responsibilities and must practice proper etiquette, ethics, and agree to the requirements of this policy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2:50:17Z</dcterms:created>
  <dc:creator>PSD</dc:creator>
  <dc:description/>
  <dc:language>en-US</dc:language>
  <cp:lastModifiedBy>PSD</cp:lastModifiedBy>
  <dcterms:modified xsi:type="dcterms:W3CDTF">2010-03-14T00:34:28Z</dcterms:modified>
  <cp:revision>44</cp:revision>
  <dc:subject/>
  <dc:title>PowerPoint Presentation</dc:title>
</cp:coreProperties>
</file>